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C453-A3F1-4745-A679-F4CDA2EFD5F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7BC5F-1386-4B2B-BA6E-EAE011FCE3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40761-5290-40C1-9374-518550519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0C765-E6A2-4BA8-8DB7-F8D61820A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EFE90-B0BA-467F-B7A8-F5EBC60AE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94420-AA43-4763-9C34-F5A5069BE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13270-F339-4B6A-9B7B-B418CC9B5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B5DEB-6895-4814-9779-734AF4BC2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6F1F1-93B6-48CA-A6A5-C0B126CEE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D2992-A0A8-4FFF-BAA6-A2A5CD6C2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DC33B-6275-4FB2-850D-00CF3B802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14731-02FB-40D1-BA09-2AFC190CB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8D0F4-A850-48AA-9E2A-E01DFF590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E74F2-A52C-4394-9365-3CB2BAFD3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9F936-CE99-4591-9AB1-75C18B388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30539-920A-44E1-ADC4-9D2878596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7E493-F510-4B20-AC5C-C7D5B1F83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1E9C7-3201-4CC4-9E63-3C1A02806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D72BD0-AF6C-41E7-A8C5-6744827C41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5469BB-2F45-4132-91FA-C3A1CFE4C5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95153-FAB1-46CC-A097-B19A1ED8C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012E1-3BC1-4BE3-ACB9-CA3DEE1A1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E4D28-2D81-4381-BE28-156A37733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08532-6748-4C33-89E0-D2C11B2760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35852-4C8B-4C70-904E-7CB7E7E53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7058E-2774-40B6-91BB-45F0B56D3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A0E94-3EA8-4A26-9C4E-7248716F63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93A5E-29AD-4E43-8AC2-47DE6B95F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70C6C-9375-44BB-B738-BB748BAF7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01929-F48E-4DB0-B121-39DEF429B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D1E3F9-C31D-44A9-B8F2-A820CDCDC5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226B02-B806-4282-968C-CD5331F064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0C292C-BED2-41C3-BD48-E9CBEC8E7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39895-97A1-4BBB-8924-06B6706AA6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23699-0F6D-4CE6-ABFD-06DDFE7436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035B3-FA89-4D56-9B4E-494157ECB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140D44-ADD7-4ABF-925C-6A3A6DAAC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646BB4-FC1E-4375-938A-8CAC722129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EBD5A4-6FEE-4EC0-9253-3774465DDD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C4B15D-C7A4-4179-A3EF-C67B1EBD7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71CFE9-E582-496E-9B19-791B376AC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9D5CB-9E3F-4E99-8378-3D6FAFF59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EB004A-E0C7-4AFA-A312-4B9BE91568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DF3FAC-9F33-4F1B-A1FE-DF3CFF6B0C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4D8469-0A62-424D-9858-CDAEDF0ECE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594116-2660-4D2D-95E2-C68F037CD4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B9619-EECA-492C-AE00-D67ECEA86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595169-D44E-47B1-8FEF-A8AD491B8D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528E5-F9B4-485A-B1A2-52D4CCEDF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64FE2E-AC92-4C9D-8B47-6328A0FF95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CF8BA-0658-49BA-B4E6-6AF6A588B2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A47F9C-B853-4C13-9A15-76DC7DE541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44A19-AB63-4D33-A845-2F3F2894B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442670-8F08-422D-AABA-4625BDB72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D6128-F1C3-49FA-B5F2-16650D38C3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96D8F-80F9-4B90-9E5A-090E8AE6CB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B67D63-D93A-44EE-AF1D-C406DB0629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B01A4-2D64-4A59-90C0-EE8145550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2172F1-958E-49D8-8B8E-C6EBE5CF38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9FA3A6-5D0F-47D2-BF07-46EB2C02CD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F2F494-FF1B-4366-B3F3-7436229517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20B904-D8A1-4F18-ADFE-EDC8F50924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8CF344-429F-4D4F-8A0B-8D9F2678F0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BD1550-E527-48F2-9890-EA23C29EF5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B1B908-D258-42DF-81AC-A7C2E48B03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547FC7-1D9F-4A91-8BDE-CF93C46A7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575F08-75A5-441A-818A-729D22683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7C95A5-C3AA-4162-961E-4292688B8D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F1ED1-0BFF-487D-B8EF-92854B379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D79F08-A98F-4F01-8AF5-2ED3B943B4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78BFF3-0FAF-4ECE-8143-ABAAD951BD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9C4DFA-8C2A-427A-883B-9421A6CCC7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1415B2-7C10-482C-A92F-D480399F3C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64E2E2-048A-494E-9879-16712B764A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D417BC-8E02-4C33-84A4-0D041769E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24CC73-75B6-446E-85A7-EE4307DE6F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2624C-F368-4A94-8B71-7451E6AAB1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95126-50C0-43D5-9283-56E3E93AC2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34BF18-0289-4BD5-8FEA-F290C66E86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04D0E-9429-4908-9E3D-BB550293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05DCFD-3492-4536-8B05-AFC5CD3F6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65A4B5-9074-425E-8A76-6A7D87EF2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CA9DD3-FC82-4740-AA05-14EFC74B5A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A15A3F-939C-4275-AE36-D99C7F1781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6EF0EA-CB7E-4E24-8D6D-08F233E911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50FEA-AE6A-4A53-A39D-E8F94365F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32FD-B117-4973-BB9C-35A951FB589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AB2BD-886D-4A19-B3A6-4F322AFA0F9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6BAD-3C93-4238-AAB3-65290A794C9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14F5-AE27-46BC-A5D3-FF65AEFFE88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3E2E-6B25-4A1C-AF03-096F2EB803C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8FE0-3D7D-40D9-B31F-C9BA7BD2610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4C1DB-048F-45AE-A32A-3239658D625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914400" y="5230800"/>
            <a:ext cx="7772400" cy="1109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77"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5"/>
                                        </p:tgtEl>
                                        <p:attrNameLst>
                                          <p:attrName>style.visibility</p:attrName>
                                        </p:attrNameLst>
                                      </p:cBhvr>
                                      <p:to>
                                        <p:strVal val="visible"/>
                                      </p:to>
                                    </p:set>
                                    <p:animEffect filter="fade" transition="in">
                                      <p:cBhvr additive="repl">
                                        <p:cTn id="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00" name="Picture 2" descr=""/>
          <p:cNvPicPr/>
          <p:nvPr/>
        </p:nvPicPr>
        <p:blipFill>
          <a:blip r:embed="rId1"/>
          <a:stretch/>
        </p:blipFill>
        <p:spPr>
          <a:xfrm>
            <a:off x="1600200" y="1523880"/>
            <a:ext cx="3286080" cy="2254320"/>
          </a:xfrm>
          <a:prstGeom prst="rect">
            <a:avLst/>
          </a:prstGeom>
          <a:ln w="0">
            <a:noFill/>
          </a:ln>
        </p:spPr>
      </p:pic>
      <p:pic>
        <p:nvPicPr>
          <p:cNvPr id="401" name="Picture 4" descr=""/>
          <p:cNvPicPr/>
          <p:nvPr/>
        </p:nvPicPr>
        <p:blipFill>
          <a:blip r:embed="rId2"/>
          <a:stretch/>
        </p:blipFill>
        <p:spPr>
          <a:xfrm>
            <a:off x="5105520" y="1371600"/>
            <a:ext cx="2781360" cy="2085840"/>
          </a:xfrm>
          <a:prstGeom prst="rect">
            <a:avLst/>
          </a:prstGeom>
          <a:ln w="0">
            <a:noFill/>
          </a:ln>
        </p:spPr>
      </p:pic>
      <p:pic>
        <p:nvPicPr>
          <p:cNvPr id="402" name="Picture 5" descr=""/>
          <p:cNvPicPr/>
          <p:nvPr/>
        </p:nvPicPr>
        <p:blipFill>
          <a:blip r:embed="rId3"/>
          <a:stretch/>
        </p:blipFill>
        <p:spPr>
          <a:xfrm>
            <a:off x="1600200" y="4629240"/>
            <a:ext cx="3429000" cy="2228760"/>
          </a:xfrm>
          <a:prstGeom prst="rect">
            <a:avLst/>
          </a:prstGeom>
          <a:ln w="0">
            <a:noFill/>
          </a:ln>
        </p:spPr>
      </p:pic>
      <p:pic>
        <p:nvPicPr>
          <p:cNvPr id="403" name="Picture 6" descr=""/>
          <p:cNvPicPr/>
          <p:nvPr/>
        </p:nvPicPr>
        <p:blipFill>
          <a:blip r:embed="rId4"/>
          <a:stretch/>
        </p:blipFill>
        <p:spPr>
          <a:xfrm>
            <a:off x="5181480" y="4876920"/>
            <a:ext cx="3589560" cy="1828800"/>
          </a:xfrm>
          <a:prstGeom prst="rect">
            <a:avLst/>
          </a:prstGeom>
          <a:ln w="0">
            <a:noFill/>
          </a:ln>
        </p:spPr>
      </p:pic>
      <p:pic>
        <p:nvPicPr>
          <p:cNvPr id="404" name="Picture 7" descr=""/>
          <p:cNvPicPr/>
          <p:nvPr/>
        </p:nvPicPr>
        <p:blipFill>
          <a:blip r:embed="rId5"/>
          <a:stretch/>
        </p:blipFill>
        <p:spPr>
          <a:xfrm>
            <a:off x="533520" y="2819520"/>
            <a:ext cx="2000160" cy="2286000"/>
          </a:xfrm>
          <a:prstGeom prst="rect">
            <a:avLst/>
          </a:prstGeom>
          <a:ln w="0">
            <a:noFill/>
          </a:ln>
        </p:spPr>
      </p:pic>
      <p:pic>
        <p:nvPicPr>
          <p:cNvPr id="405"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07"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11"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12"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15" name="Content Placeholder 9" descr=""/>
          <p:cNvPicPr/>
          <p:nvPr/>
        </p:nvPicPr>
        <p:blipFill>
          <a:blip r:embed="rId1"/>
          <a:stretch/>
        </p:blipFill>
        <p:spPr>
          <a:xfrm>
            <a:off x="914400" y="585720"/>
            <a:ext cx="7772400" cy="6510240"/>
          </a:xfrm>
          <a:prstGeom prst="rect">
            <a:avLst/>
          </a:prstGeom>
          <a:ln w="0">
            <a:noFill/>
          </a:ln>
        </p:spPr>
      </p:pic>
      <p:sp>
        <p:nvSpPr>
          <p:cNvPr id="416"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9" name="Picture 2" descr=""/>
          <p:cNvPicPr/>
          <p:nvPr/>
        </p:nvPicPr>
        <p:blipFill>
          <a:blip r:embed="rId1"/>
          <a:stretch/>
        </p:blipFill>
        <p:spPr>
          <a:xfrm>
            <a:off x="5486400" y="4200480"/>
            <a:ext cx="2422440" cy="2657520"/>
          </a:xfrm>
          <a:prstGeom prst="rect">
            <a:avLst/>
          </a:prstGeom>
          <a:ln w="0">
            <a:noFill/>
          </a:ln>
        </p:spPr>
      </p:pic>
      <p:pic>
        <p:nvPicPr>
          <p:cNvPr id="420" name="Picture 3" descr=""/>
          <p:cNvPicPr/>
          <p:nvPr/>
        </p:nvPicPr>
        <p:blipFill>
          <a:blip r:embed="rId2"/>
          <a:stretch/>
        </p:blipFill>
        <p:spPr>
          <a:xfrm>
            <a:off x="1676520" y="4200480"/>
            <a:ext cx="2073240" cy="2657520"/>
          </a:xfrm>
          <a:prstGeom prst="rect">
            <a:avLst/>
          </a:prstGeom>
          <a:ln w="0">
            <a:noFill/>
          </a:ln>
        </p:spPr>
      </p:pic>
      <p:pic>
        <p:nvPicPr>
          <p:cNvPr id="421"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3" name="Picture 3" descr=""/>
          <p:cNvPicPr/>
          <p:nvPr/>
        </p:nvPicPr>
        <p:blipFill>
          <a:blip r:embed="rId1"/>
          <a:stretch/>
        </p:blipFill>
        <p:spPr>
          <a:xfrm>
            <a:off x="6324480" y="838080"/>
            <a:ext cx="2581560" cy="1771920"/>
          </a:xfrm>
          <a:prstGeom prst="rect">
            <a:avLst/>
          </a:prstGeom>
          <a:ln w="0">
            <a:noFill/>
          </a:ln>
        </p:spPr>
      </p:pic>
      <p:pic>
        <p:nvPicPr>
          <p:cNvPr id="424" name="Picture 4" descr=""/>
          <p:cNvPicPr/>
          <p:nvPr/>
        </p:nvPicPr>
        <p:blipFill>
          <a:blip r:embed="rId2"/>
          <a:stretch/>
        </p:blipFill>
        <p:spPr>
          <a:xfrm>
            <a:off x="3429000" y="838080"/>
            <a:ext cx="2701800" cy="1792440"/>
          </a:xfrm>
          <a:prstGeom prst="rect">
            <a:avLst/>
          </a:prstGeom>
          <a:ln w="0">
            <a:noFill/>
          </a:ln>
        </p:spPr>
      </p:pic>
      <p:pic>
        <p:nvPicPr>
          <p:cNvPr id="425"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7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0"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2">
                                            <p:txEl>
                                              <p:pRg st="5" end="5"/>
                                            </p:txEl>
                                          </p:spTgt>
                                        </p:tgtEl>
                                        <p:attrNameLst>
                                          <p:attrName>style.visibility</p:attrName>
                                        </p:attrNameLst>
                                      </p:cBhvr>
                                      <p:to>
                                        <p:strVal val="visible"/>
                                      </p:to>
                                    </p:set>
                                    <p:animEffect filter="fade" transition="in">
                                      <p:cBhvr additive="repl">
                                        <p:cTn id="14" dur="500"/>
                                        <p:tgtEl>
                                          <p:spTgt spid="3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3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8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0"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391" name="Picture 2" descr=""/>
          <p:cNvPicPr/>
          <p:nvPr/>
        </p:nvPicPr>
        <p:blipFill>
          <a:blip r:embed="rId2"/>
          <a:stretch/>
        </p:blipFill>
        <p:spPr>
          <a:xfrm>
            <a:off x="6629400" y="1523880"/>
            <a:ext cx="1847880" cy="2467080"/>
          </a:xfrm>
          <a:prstGeom prst="rect">
            <a:avLst/>
          </a:prstGeom>
          <a:ln w="0">
            <a:noFill/>
          </a:ln>
        </p:spPr>
      </p:pic>
      <p:sp>
        <p:nvSpPr>
          <p:cNvPr id="392"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baseline="30000">
                <a:solidFill>
                  <a:srgbClr val="ffffff"/>
                </a:solidFill>
                <a:latin typeface="Corbel"/>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394" name=""/>
          <p:cNvSpPr txBox="1"/>
          <p:nvPr/>
        </p:nvSpPr>
        <p:spPr>
          <a:xfrm>
            <a:off x="914400" y="1784520"/>
            <a:ext cx="3200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irit entities are communicating through the Earth</a:t>
            </a:r>
            <a:endParaRPr b="0" lang="en-US" sz="3000" spc="-1" strike="noStrike">
              <a:solidFill>
                <a:srgbClr val="ffffff"/>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niversity math students are playing a prank</a:t>
            </a:r>
            <a:endParaRPr b="0" lang="en-US" sz="3000" spc="-1" strike="noStrike">
              <a:solidFill>
                <a:srgbClr val="ffffff"/>
              </a:solidFill>
              <a:latin typeface="Corbel"/>
            </a:endParaRPr>
          </a:p>
        </p:txBody>
      </p:sp>
      <p:pic>
        <p:nvPicPr>
          <p:cNvPr id="395" name="Picture 2" descr="http://static.ddmcdn.com/gif/crop-circle-12.jpg"/>
          <p:cNvPicPr/>
          <p:nvPr/>
        </p:nvPicPr>
        <p:blipFill>
          <a:blip r:embed="rId1"/>
          <a:stretch/>
        </p:blipFill>
        <p:spPr>
          <a:xfrm>
            <a:off x="4521240" y="1828800"/>
            <a:ext cx="41655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7"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98"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Administrator</cp:lastModifiedBy>
  <dcterms:modified xsi:type="dcterms:W3CDTF">2013-02-27T18:51:37Z</dcterms:modified>
  <cp:revision>3</cp:revision>
  <dc:subject/>
  <dc:title>Nature of science</dc:title>
</cp:coreProperties>
</file>